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2A8-3DEA-4239-B31D-E93F307E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3EC-8F28-48D0-8D95-27BC06E0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2F8-7696-4F07-A2BF-E73C755B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B4E-194F-4E3D-92D9-EB496FD1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BBAE-4BDF-4BD9-8ADC-F0B5F63E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9693-3FBD-4D9E-9B20-A3118EAC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40B3-8D41-4057-A1D2-ED567557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1CEE-6598-4B63-9EC6-AF76A000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D200-4D6E-498F-AB25-9B30A8F8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85DE-7CE1-4024-B7AA-802D16AE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7720-B5CB-4E2B-A039-7D2B3A2E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1E4-E91C-414F-AA3F-ACB512C4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821C-99ED-434A-BB7B-C04A1056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E19B-6D86-4A17-9633-670B7379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87F5-8524-4906-A734-17F5DD16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3913-5F41-4840-9C02-6652B4F3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22E4-FD38-4A0A-8DBF-EDCEAE80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E8B-2D3F-4042-9E39-1F2505CB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B00-239E-46BC-B000-54E286E3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773-0A1E-481B-AFDF-9B6A427C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14AF-D00E-4F89-BC1B-459FB147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276-6B82-400A-A962-D374E81B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C56-F357-4E65-BCCC-D85E41AD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B779-690C-4D39-BC2E-8E98762A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83CC-71B7-4E7C-8FFB-43FBF5FE6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93D7-2CFB-4948-9C7A-11A372C5078A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Session 2:</a:t>
            </a: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Comic Sans MS"/>
              </a:rPr>
              <a:t>Understanding Inclusio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Picture3"/>
          <p:cNvPicPr/>
          <p:nvPr/>
        </p:nvPicPr>
        <p:blipFill>
          <a:blip r:embed="rId1"/>
          <a:stretch/>
        </p:blipFill>
        <p:spPr>
          <a:xfrm>
            <a:off x="6095880" y="5397480"/>
            <a:ext cx="27054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Diagram 5"/>
          <p:cNvGrpSpPr/>
          <p:nvPr/>
        </p:nvGrpSpPr>
        <p:grpSpPr>
          <a:xfrm>
            <a:off x="3015000" y="902880"/>
            <a:ext cx="4663800" cy="4065840"/>
            <a:chOff x="3015000" y="902880"/>
            <a:chExt cx="4663800" cy="4065840"/>
          </a:xfrm>
        </p:grpSpPr>
        <p:sp>
          <p:nvSpPr>
            <p:cNvPr id="120" name="_s1028"/>
            <p:cNvSpPr/>
            <p:nvPr/>
          </p:nvSpPr>
          <p:spPr>
            <a:xfrm>
              <a:off x="3015000" y="2042280"/>
              <a:ext cx="2895120" cy="2926440"/>
            </a:xfrm>
            <a:prstGeom prst="donut">
              <a:avLst>
                <a:gd name="adj" fmla="val 16666"/>
              </a:avLst>
            </a:prstGeom>
            <a:solidFill>
              <a:srgbClr val="ff8c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_s1029"/>
            <p:cNvSpPr/>
            <p:nvPr/>
          </p:nvSpPr>
          <p:spPr>
            <a:xfrm>
              <a:off x="6907680" y="2204280"/>
              <a:ext cx="771120" cy="650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ll Children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_s1030"/>
            <p:cNvSpPr/>
            <p:nvPr/>
          </p:nvSpPr>
          <p:spPr>
            <a:xfrm>
              <a:off x="3496680" y="2529360"/>
              <a:ext cx="1929960" cy="1950840"/>
            </a:xfrm>
            <a:prstGeom prst="donut">
              <a:avLst>
                <a:gd name="adj" fmla="val 25000"/>
              </a:avLst>
            </a:prstGeom>
            <a:solidFill>
              <a:srgbClr val="01bd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_s1031"/>
            <p:cNvSpPr/>
            <p:nvPr/>
          </p:nvSpPr>
          <p:spPr>
            <a:xfrm>
              <a:off x="6907680" y="1553400"/>
              <a:ext cx="771120" cy="650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504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_s1032"/>
            <p:cNvSpPr/>
            <p:nvPr/>
          </p:nvSpPr>
          <p:spPr>
            <a:xfrm>
              <a:off x="3980160" y="3017880"/>
              <a:ext cx="964800" cy="975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6907680" y="902880"/>
              <a:ext cx="771120" cy="650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IDEA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Diagram 8"/>
          <p:cNvGrpSpPr/>
          <p:nvPr/>
        </p:nvGrpSpPr>
        <p:grpSpPr>
          <a:xfrm>
            <a:off x="351000" y="2431080"/>
            <a:ext cx="8439120" cy="1919160"/>
            <a:chOff x="351000" y="2431080"/>
            <a:chExt cx="8439120" cy="1919160"/>
          </a:xfrm>
        </p:grpSpPr>
        <p:sp>
          <p:nvSpPr>
            <p:cNvPr id="127" name="_s2052"/>
            <p:cNvSpPr/>
            <p:nvPr/>
          </p:nvSpPr>
          <p:spPr>
            <a:xfrm>
              <a:off x="4317120" y="2431080"/>
              <a:ext cx="2130120" cy="1919160"/>
            </a:xfrm>
            <a:prstGeom prst="ellipse">
              <a:avLst/>
            </a:prstGeom>
            <a:solidFill>
              <a:srgbClr val="1c1c1c">
                <a:alpha val="50000"/>
              </a:srgbClr>
            </a:solidFill>
            <a:ln w="572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_s2053"/>
            <p:cNvSpPr/>
            <p:nvPr/>
          </p:nvSpPr>
          <p:spPr>
            <a:xfrm>
              <a:off x="6660360" y="3151080"/>
              <a:ext cx="21297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Section 504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_s2054"/>
            <p:cNvSpPr/>
            <p:nvPr/>
          </p:nvSpPr>
          <p:spPr>
            <a:xfrm>
              <a:off x="2694240" y="2431080"/>
              <a:ext cx="2129760" cy="19191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_s2055"/>
            <p:cNvSpPr/>
            <p:nvPr/>
          </p:nvSpPr>
          <p:spPr>
            <a:xfrm>
              <a:off x="351000" y="3151080"/>
              <a:ext cx="213012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DEA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cluding Samuel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 for Reflection as you view the vide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Samuel’s teacher in an inclusive classroom, what concerns would you ha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Students 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wi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is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cademic Performa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roved standardized test scores, reading performance, mastery of IEP goals, grades, on-task behavior, motivation, and att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ocial Performanc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 with typically developing peers --- some characterize their experience by fear, frustration, ridicule and isolation while others speak about friendships, intellectual challenges, self-esteem, and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act of Inclusion on Other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withou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is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ademic ---- equal or better performance than those not educated in inclusion classroo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du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act 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arning Pyrami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5" descr="learning_pyramid.jpg"/>
          <p:cNvPicPr/>
          <p:nvPr/>
        </p:nvPicPr>
        <p:blipFill>
          <a:blip r:embed="rId1"/>
          <a:srcRect l="0" t="10449" r="0" b="0"/>
          <a:stretch/>
        </p:blipFill>
        <p:spPr>
          <a:xfrm>
            <a:off x="1066680" y="1674720"/>
            <a:ext cx="74678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had a disability, would you prefer a general education or special education setting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r child did not have a disability, which class would you pref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 next clas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 to the previous questions on the blo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be focusing o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E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ext clas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P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ee Appropriate Public Education (</a:t>
            </a: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FAP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what all children in the U.S. are entitled to under the Individuals with Disabilities Education Act 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DE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 does "appropriate" mea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's important to note that "appropriate" does not mean "best," nor does it mean "appropriate to the school district's plans for this year.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law requires that this FAPE take place in the Least Restrictive Environment (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east Restrictive Environment (LR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ome kids, this will mean full i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other kids, a self-contained classroom may in fact be less restrictive and more appropriate.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appropriate" --- interpretations must be individualized to the needs of the child, not the needs of the school or the needs of the distr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vement to I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institution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rly Intervention (EI) and Early Childhoo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ical Adv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vil Rights Movement and Resulting Liti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ocac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regated Nature of Special Schools and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roportionate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ucational Re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aws that Shape Special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4-142: Education for All Handicapped Children Act (197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99-457: Education for All Handicapped Children Act Amendments (198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provision for the early years (E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 101-476(IDEA): Individuals with Disabilities Education Act (199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Amendments of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28600" y="4267080"/>
            <a:ext cx="8381880" cy="2362320"/>
          </a:xfrm>
          <a:prstGeom prst="rect">
            <a:avLst/>
          </a:prstGeom>
          <a:solidFill>
            <a:srgbClr val="00e4a8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 is organized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rt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A, General Pro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B, Assistance for the Education of All Children with Disabilities (school age/preschool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C, Infants and Toddlers with Dis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D, National Activities to Improve the Education of Children with Disabilities (support progra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39686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09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ll children with disabilities are entitled to services under IDEA, only those who are "eligible" under the specified disability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38120" y="-360"/>
            <a:ext cx="4800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-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f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otional Disturb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ing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ntal Retardation (Intellectual Dis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Dis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thopedic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Health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 Learning Dis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or Language Impair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umatic Brain Inju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-3618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Impairment Including Blind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95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ection 504 of the Rehabilitation Ac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tion 504 is less discriminatory: it prot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ersons with a disability who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ve a physical or mental impairment which substantially limits one or more major life activities;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record of such an impairment; or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 regarded as having such an impairment.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 of Major Life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ing for one's self, performing manual tasks, walking, seeing, hearing, speaking, breathing, learning, and working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ting, sleeping, standing, lifting, bending, reading, concentrating, thinking, and communicating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 bodily functions” that are major life activities, such as the functions of the immune system, normal cell growth, digestive, bowel, bladder, neurological, brain, respiratory, circulatory, endocrine, and reproductive func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23:56Z</dcterms:created>
  <dc:creator>User</dc:creator>
  <dc:description/>
  <dc:language>en-US</dc:language>
  <cp:lastModifiedBy>wsmith</cp:lastModifiedBy>
  <dcterms:modified xsi:type="dcterms:W3CDTF">2010-12-27T21:34:40Z</dcterms:modified>
  <cp:revision>10</cp:revision>
  <dc:subject/>
  <dc:title>Slide 1</dc:title>
</cp:coreProperties>
</file>